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081A-269D-4E82-93DA-1D7C8A35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29A-5023-46E6-8FCC-35000495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47D-307C-41BD-B56F-2E1E059B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BD72-9976-4094-ABEB-8877CCFF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E9E-B2ED-42AD-85CC-A377098D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CF0-A602-4765-8FD2-0DF5DE14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4FA-3CCB-4414-91CF-AC2D4C79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B30-C916-4872-A1B8-98EB64FE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6781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45D-5D60-467A-B148-2B2504CD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26D-B5D0-4DFD-A6F4-F4D518AE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8E0-173C-4990-BDDD-CE87DACC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965-4089-43F6-930B-94E24BDC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d5dff"/>
              </a:gs>
              <a:gs pos="100000">
                <a:srgbClr val="0409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≈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ddddd"/>
                </a:solidFill>
                <a:latin typeface="Arial"/>
              </a:rPr>
              <a:t>Mar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CA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dddddd"/>
                </a:solidFill>
                <a:latin typeface="Arial"/>
              </a:rPr>
              <a:t>BatteryMonitor Trim Resis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1FA2-037E-4684-8AE3-BE391AD7B8C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57960" y="241200"/>
            <a:ext cx="1544760" cy="828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CA" sz="4000" spc="-1" strike="noStrike">
                <a:solidFill>
                  <a:srgbClr val="ffff00"/>
                </a:solidFill>
                <a:latin typeface="Arial"/>
              </a:rPr>
              <a:t>Trim Resistor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Arial"/>
              </a:rPr>
              <a:t>Used if current to voltage converter is outside +/- 5 % tolerance</a:t>
            </a:r>
            <a:endParaRPr b="1" i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Arial"/>
              </a:rPr>
              <a:t>Parallel resistor trims sense resistor to just under 2.5mOhms</a:t>
            </a:r>
            <a:endParaRPr b="1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95960" y="1933560"/>
            <a:ext cx="4389120" cy="388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3960" y="3611520"/>
            <a:ext cx="4038480" cy="1881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815-EFEA-4BD9-985D-CD6296E8AD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6:02:54Z</dcterms:created>
  <dc:creator>PostHouse</dc:creator>
  <dc:description/>
  <dc:language>en-US</dc:language>
  <cp:lastModifiedBy>w.getchell</cp:lastModifiedBy>
  <cp:lastPrinted>2011-03-11T04:19:00Z</cp:lastPrinted>
  <dcterms:modified xsi:type="dcterms:W3CDTF">2011-03-24T21:32:11Z</dcterms:modified>
  <cp:revision>138</cp:revision>
  <dc:subject/>
  <dc:title>Slide 1</dc:title>
</cp:coreProperties>
</file>